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52750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2900160" y="527040"/>
            <a:ext cx="350964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527508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26AC-81C9-4007-910F-85EB6DDC9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075D-3597-419E-9833-34592CF31DDC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200E-533F-4FC3-B96C-12A7C2536AEA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8EF3-D909-48F5-9F72-21C6EDE616BA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D766-9BF4-4082-A869-7239C25A1DF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026F-FDF8-4364-9F59-247EE4BD8B3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7707-C892-4787-B61A-438FFCA5EF19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4DFA-98F2-42E2-B392-63A39A09884F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885B-EC20-4F0E-B3F3-56CD6C57873A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07AF-2BA2-420F-8DF8-C46DBB6CC907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CB52-4F63-450C-A771-7534A64E5FE1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168C-C304-4512-B9D9-341DAD557312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http://www.50states.com/ to find information about your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7819-7E7C-4EC1-BAA5-5E619EB2543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5AC8-5AD9-4F89-8A96-D6B1AE6F0336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A369-E8AA-41F1-90EC-7B3851DB2CF6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D48C-5396-4F3D-950D-87791331BEE0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4C0C-9E83-4E43-872B-CAED67A59928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C752-C5ED-4404-ABDE-65182F0E5634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1CE6-D27A-4D61-BCAE-BC03C61F2BC2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DBD5-9EEE-424C-8E4C-518E5DBCCA9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F8DD-A150-4BE3-AA12-AA2C582126B2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D960-7F42-46B9-BCCB-7793C352F29D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5F53-22C5-44C7-BC9E-73495FA801A2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825-7246-4389-B7AE-DC0927D1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E1E-F546-4D21-B35C-185E2734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095-325F-4E6B-A567-A132E710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FA8-3BFA-412A-A157-1E85FC75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6526-5BEC-4BE7-AA4D-9A364BFB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C617-6FE4-4082-80CB-3963E330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C6D7-CBEC-4C66-97BF-3D99F227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96BE-F723-4849-B072-37BA048B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5CED-2524-473C-A8E1-7197656F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B8B4-CBB5-4669-A09F-112AC868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F843-B3F0-49BA-8049-BCFFD138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218-F2CB-4F7F-97D8-391AD338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47DD-016E-42FB-8EA7-FF878045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1AFF-947A-48FF-993D-5FE713FE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1B0F-1848-4F0E-B82C-2E5A7B0F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4358-0477-4F10-BC60-529D8528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A413-1727-4437-B42D-4B6AA352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697-8E3D-408C-8F34-7D2AB55A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671-EEAE-4066-94D0-4D6AC7ED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517-A0C2-4D3A-B3EE-A905B175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C5A-EB29-4356-8FDB-B4B6CB56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D4C-DF51-4EC1-9678-2091F007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9BB4-BCD4-4D2E-8D09-A2E7AFF8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093-1D20-4993-A1D2-6921645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1440" y="843840"/>
                  <a:ext cx="1064160" cy="1141200"/>
                  <a:chOff x="7831440" y="843840"/>
                  <a:chExt cx="106416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6560" y="1136880"/>
                    <a:ext cx="893160" cy="160920"/>
                  </a:xfrm>
                  <a:custGeom>
                    <a:avLst/>
                    <a:gdLst>
                      <a:gd name="textAreaLeft" fmla="*/ 0 w 893160"/>
                      <a:gd name="textAreaRight" fmla="*/ 893520 w 89316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10320" y="1606680"/>
                    <a:ext cx="465120" cy="249840"/>
                  </a:xfrm>
                  <a:custGeom>
                    <a:avLst/>
                    <a:gdLst>
                      <a:gd name="textAreaLeft" fmla="*/ 0 w 465120"/>
                      <a:gd name="textAreaRight" fmla="*/ 465480 w 4651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>
                      <a:gd name="textAreaLeft" fmla="*/ 0 w 861480"/>
                      <a:gd name="textAreaRight" fmla="*/ 861840 w 86148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>
                      <a:gd name="textAreaLeft" fmla="*/ 0 w 456840"/>
                      <a:gd name="textAreaRight" fmla="*/ 457200 w 45684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1960" y="657720"/>
                  <a:ext cx="1223640" cy="417240"/>
                  <a:chOff x="785196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717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801360"/>
                    <a:ext cx="425160" cy="2462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46240"/>
                      <a:gd name="textAreaBottom" fmla="*/ 246600 h 246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20120"/>
                  <a:ext cx="984600" cy="325800"/>
                  <a:chOff x="7845480" y="420120"/>
                  <a:chExt cx="984600" cy="32580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7360"/>
                    <a:ext cx="628920" cy="106920"/>
                  </a:xfrm>
                  <a:custGeom>
                    <a:avLst/>
                    <a:gdLst>
                      <a:gd name="textAreaLeft" fmla="*/ 0 w 628920"/>
                      <a:gd name="textAreaRight" fmla="*/ 628920 w 628920"/>
                      <a:gd name="textAreaTop" fmla="*/ 0 h 106920"/>
                      <a:gd name="textAreaBottom" fmla="*/ 107280 h 106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8360" y="456480"/>
                    <a:ext cx="335520" cy="177480"/>
                  </a:xfrm>
                  <a:custGeom>
                    <a:avLst/>
                    <a:gdLst>
                      <a:gd name="textAreaLeft" fmla="*/ 0 w 335520"/>
                      <a:gd name="textAreaRight" fmla="*/ 335880 w 33552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7200"/>
                  <a:ext cx="1061640" cy="1141560"/>
                  <a:chOff x="6539760" y="907200"/>
                  <a:chExt cx="10616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720" y="1196640"/>
                    <a:ext cx="880200" cy="154440"/>
                  </a:xfrm>
                  <a:custGeom>
                    <a:avLst/>
                    <a:gdLst>
                      <a:gd name="textAreaLeft" fmla="*/ -360 w 880200"/>
                      <a:gd name="textAreaRight" fmla="*/ 880200 w 880200"/>
                      <a:gd name="textAreaTop" fmla="*/ 0 h 154440"/>
                      <a:gd name="textAreaBottom" fmla="*/ 154800 h 154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60280" y="1664640"/>
                    <a:ext cx="471600" cy="254160"/>
                  </a:xfrm>
                  <a:custGeom>
                    <a:avLst/>
                    <a:gdLst>
                      <a:gd name="textAreaLeft" fmla="*/ 360 w 471600"/>
                      <a:gd name="textAreaRight" fmla="*/ 472320 w 471600"/>
                      <a:gd name="textAreaTop" fmla="*/ 0 h 254160"/>
                      <a:gd name="textAreaBottom" fmla="*/ 254520 h 254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>
                      <a:gd name="textAreaLeft" fmla="*/ -360 w 928440"/>
                      <a:gd name="textAreaRight" fmla="*/ 928440 w 9284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8040"/>
                      <a:gd name="textAreaBottom" fmla="*/ 158400 h 158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200"/>
                      <a:gd name="textAreaBottom" fmla="*/ 169560 h 169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6400"/>
                      <a:gd name="textAreaBottom" fmla="*/ 266760 h 266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>
                      <a:gd name="textAreaLeft" fmla="*/ 0 w 540360"/>
                      <a:gd name="textAreaRight" fmla="*/ 540360 w 54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>
                      <a:gd name="textAreaLeft" fmla="*/ 360 w 295920"/>
                      <a:gd name="textAreaRight" fmla="*/ 296640 w 29592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>
                      <a:gd name="textAreaLeft" fmla="*/ 0 w 630360"/>
                      <a:gd name="textAreaRight" fmla="*/ 630720 w 63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>
                      <a:gd name="textAreaLeft" fmla="*/ 0 w 331560"/>
                      <a:gd name="textAreaRight" fmla="*/ 331560 w 33156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>
                      <a:gd name="textAreaLeft" fmla="*/ 0 w 636120"/>
                      <a:gd name="textAreaRight" fmla="*/ 636480 w 63612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>
                      <a:gd name="textAreaLeft" fmla="*/ 0 w 334800"/>
                      <a:gd name="textAreaRight" fmla="*/ 334800 w 33480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>
                      <a:gd name="textAreaLeft" fmla="*/ 0 w 541800"/>
                      <a:gd name="textAreaRight" fmla="*/ 542160 w 54180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>
                      <a:gd name="textAreaLeft" fmla="*/ 0 w 294120"/>
                      <a:gd name="textAreaRight" fmla="*/ 294480 w 2941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1320"/>
                  <a:ext cx="918000" cy="1247400"/>
                  <a:chOff x="6710400" y="931320"/>
                  <a:chExt cx="91800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0800" y="1263600"/>
                    <a:ext cx="900000" cy="160200"/>
                  </a:xfrm>
                  <a:custGeom>
                    <a:avLst/>
                    <a:gdLst>
                      <a:gd name="textAreaLeft" fmla="*/ 360 w 900000"/>
                      <a:gd name="textAreaRight" fmla="*/ 900720 w 9000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custGeom>
                    <a:avLst/>
                    <a:gdLst>
                      <a:gd name="textAreaLeft" fmla="*/ -360 w 477000"/>
                      <a:gd name="textAreaRight" fmla="*/ 477000 w 4770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560"/>
                  <a:ext cx="619200" cy="1248480"/>
                  <a:chOff x="7015320" y="979560"/>
                  <a:chExt cx="61920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4000" y="1314720"/>
                    <a:ext cx="833400" cy="160920"/>
                  </a:xfrm>
                  <a:custGeom>
                    <a:avLst/>
                    <a:gdLst>
                      <a:gd name="textAreaLeft" fmla="*/ -360 w 833400"/>
                      <a:gd name="textAreaRight" fmla="*/ 833400 w 8334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6960" y="1854000"/>
                    <a:ext cx="433440" cy="251280"/>
                  </a:xfrm>
                  <a:custGeom>
                    <a:avLst/>
                    <a:gdLst>
                      <a:gd name="textAreaLeft" fmla="*/ 360 w 433440"/>
                      <a:gd name="textAreaRight" fmla="*/ 434160 w 4334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960" cy="1217520"/>
                  <a:chOff x="7312320" y="1001160"/>
                  <a:chExt cx="363960" cy="12175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3040" y="1329120"/>
                    <a:ext cx="789480" cy="146520"/>
                  </a:xfrm>
                  <a:custGeom>
                    <a:avLst/>
                    <a:gdLst>
                      <a:gd name="textAreaLeft" fmla="*/ -360 w 789480"/>
                      <a:gd name="textAreaRight" fmla="*/ 789480 w 789480"/>
                      <a:gd name="textAreaTop" fmla="*/ 0 h 146520"/>
                      <a:gd name="textAreaBottom" fmla="*/ 146880 h 146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200" y="1876680"/>
                    <a:ext cx="423000" cy="225360"/>
                  </a:xfrm>
                  <a:custGeom>
                    <a:avLst/>
                    <a:gdLst>
                      <a:gd name="textAreaLeft" fmla="*/ -360 w 423000"/>
                      <a:gd name="textAreaRight" fmla="*/ 423000 w 42300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960" cy="1262160"/>
                  <a:chOff x="7786800" y="956160"/>
                  <a:chExt cx="73296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520"/>
                    <a:ext cx="845640" cy="153720"/>
                  </a:xfrm>
                  <a:custGeom>
                    <a:avLst/>
                    <a:gdLst>
                      <a:gd name="textAreaLeft" fmla="*/ 0 w 845640"/>
                      <a:gd name="textAreaRight" fmla="*/ 846000 w 84564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400" cy="241200"/>
                  </a:xfrm>
                  <a:custGeom>
                    <a:avLst/>
                    <a:gdLst>
                      <a:gd name="textAreaLeft" fmla="*/ 0 w 455400"/>
                      <a:gd name="textAreaRight" fmla="*/ 455760 w 45540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200" y="1005120"/>
                  <a:ext cx="511560" cy="1242360"/>
                  <a:chOff x="7756200" y="1005120"/>
                  <a:chExt cx="5115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3000" y="1355040"/>
                    <a:ext cx="829080" cy="125280"/>
                  </a:xfrm>
                  <a:custGeom>
                    <a:avLst/>
                    <a:gdLst>
                      <a:gd name="textAreaLeft" fmla="*/ 0 w 829080"/>
                      <a:gd name="textAreaRight" fmla="*/ 829440 w 82908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0760" y="1906200"/>
                    <a:ext cx="444240" cy="198360"/>
                  </a:xfrm>
                  <a:custGeom>
                    <a:avLst/>
                    <a:gdLst>
                      <a:gd name="textAreaLeft" fmla="*/ 0 w 444240"/>
                      <a:gd name="textAreaRight" fmla="*/ 444600 w 44424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89800" cy="1155600"/>
                  <a:chOff x="7733880" y="1058760"/>
                  <a:chExt cx="28980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560"/>
                    <a:ext cx="750240" cy="126360"/>
                  </a:xfrm>
                  <a:custGeom>
                    <a:avLst/>
                    <a:gdLst>
                      <a:gd name="textAreaLeft" fmla="*/ 0 w 750240"/>
                      <a:gd name="textAreaRight" fmla="*/ 750600 w 7502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1400" y="1898280"/>
                    <a:ext cx="409680" cy="197640"/>
                  </a:xfrm>
                  <a:custGeom>
                    <a:avLst/>
                    <a:gdLst>
                      <a:gd name="textAreaLeft" fmla="*/ 0 w 409680"/>
                      <a:gd name="textAreaRight" fmla="*/ 410040 w 40968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499880" y="1077840"/>
                  <a:ext cx="277920" cy="1131120"/>
                  <a:chOff x="7499880" y="1077840"/>
                  <a:chExt cx="277920" cy="113112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6280" y="1407600"/>
                    <a:ext cx="749880" cy="9576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5120" y="1925640"/>
                    <a:ext cx="401400" cy="151560"/>
                  </a:xfrm>
                  <a:custGeom>
                    <a:avLst/>
                    <a:gdLst>
                      <a:gd name="textAreaLeft" fmla="*/ 0 w 401400"/>
                      <a:gd name="textAreaRight" fmla="*/ 401760 w 40140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6480"/>
                  <a:gd name="textAreaBottom" fmla="*/ 1176840 h 11764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DCB6-CDAC-4238-9D79-791867252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560"/>
            <a:chOff x="2010960" y="245520"/>
            <a:chExt cx="6896160" cy="545256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75600"/>
              <a:ext cx="945720" cy="708840"/>
              <a:chOff x="3484080" y="975600"/>
              <a:chExt cx="945720" cy="708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75600"/>
                <a:ext cx="945720" cy="708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87000"/>
                <a:ext cx="23004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560"/>
              <a:chOff x="2010960" y="245520"/>
              <a:chExt cx="6896160" cy="545256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0760" cy="5452560"/>
                <a:chOff x="2010960" y="245520"/>
                <a:chExt cx="6890760" cy="545256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5040"/>
                  <a:ext cx="3599280" cy="2654280"/>
                  <a:chOff x="3735720" y="1265040"/>
                  <a:chExt cx="3599280" cy="26542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5040"/>
                    <a:ext cx="3599280" cy="2654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680"/>
                    <a:ext cx="7124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0760" cy="5452560"/>
                  <a:chOff x="2010960" y="245520"/>
                  <a:chExt cx="6890760" cy="545256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9640" y="2323080"/>
                    <a:ext cx="2561760" cy="2741400"/>
                    <a:chOff x="5759640" y="2323080"/>
                    <a:chExt cx="2561760" cy="27414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1800" y="3021480"/>
                      <a:ext cx="2130120" cy="385560"/>
                    </a:xfrm>
                    <a:custGeom>
                      <a:avLst/>
                      <a:gdLst>
                        <a:gd name="textAreaLeft" fmla="*/ 0 w 2130120"/>
                        <a:gd name="textAreaRight" fmla="*/ 2130480 w 213012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5560" y="414504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6320"/>
                    <a:ext cx="3040200" cy="2527200"/>
                    <a:chOff x="5787360" y="2146320"/>
                    <a:chExt cx="3040200" cy="25272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9320"/>
                      <a:ext cx="2235600" cy="42732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7360"/>
                      <a:ext cx="1200960" cy="67176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400" y="2058840"/>
                    <a:ext cx="3098880" cy="1995480"/>
                    <a:chOff x="5774400" y="2058840"/>
                    <a:chExt cx="3098880" cy="19954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4600"/>
                      <a:ext cx="2140560" cy="3765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6560"/>
                        <a:gd name="textAreaBottom" fmla="*/ 376920 h 37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0360"/>
                      <a:ext cx="1149120" cy="58896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8960"/>
                        <a:gd name="textAreaBottom" fmla="*/ 589320 h 588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480"/>
                    <a:ext cx="3133800" cy="1606680"/>
                    <a:chOff x="5767920" y="1968480"/>
                    <a:chExt cx="3133800" cy="160668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7720"/>
                      <a:ext cx="2067480" cy="41364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3640"/>
                        <a:gd name="textAreaBottom" fmla="*/ 414000 h 413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360"/>
                      <a:ext cx="1110600" cy="64692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6920"/>
                        <a:gd name="textAreaBottom" fmla="*/ 647280 h 646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5240"/>
                    <a:ext cx="2939400" cy="1003320"/>
                    <a:chOff x="5805720" y="1875240"/>
                    <a:chExt cx="2939400" cy="100332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1240"/>
                      <a:ext cx="1903680" cy="38520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07160"/>
                      <a:ext cx="1023120" cy="60516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5160"/>
                        <a:gd name="textAreaBottom" fmla="*/ 605520 h 605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1880"/>
                    <a:ext cx="2658960" cy="444240"/>
                    <a:chOff x="5851080" y="1811880"/>
                    <a:chExt cx="2658960" cy="4442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960"/>
                      <a:ext cx="1730880" cy="27144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3400"/>
                      <a:ext cx="929520" cy="4212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200"/>
                        <a:gd name="textAreaBottom" fmla="*/ 421560 h 421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120"/>
                    <a:ext cx="2364120" cy="785520"/>
                    <a:chOff x="5788440" y="130212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988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06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4920" y="2475360"/>
                    <a:ext cx="2557080" cy="2738520"/>
                    <a:chOff x="2644920" y="2475360"/>
                    <a:chExt cx="2557080" cy="27385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72680"/>
                      <a:ext cx="2126520" cy="3859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89920" y="4294800"/>
                      <a:ext cx="1142280" cy="602640"/>
                    </a:xfrm>
                    <a:custGeom>
                      <a:avLst/>
                      <a:gdLst>
                        <a:gd name="textAreaLeft" fmla="*/ -360 w 1142280"/>
                        <a:gd name="textAreaRight" fmla="*/ 1142280 w 11422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3680" y="2365200"/>
                    <a:ext cx="3040200" cy="2536560"/>
                    <a:chOff x="2083680" y="2365200"/>
                    <a:chExt cx="3040200" cy="253656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67840"/>
                      <a:ext cx="2234160" cy="42732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640"/>
                      <a:ext cx="1199880" cy="6764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6440"/>
                        <a:gd name="textAreaBottom" fmla="*/ 676800 h 676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78800"/>
                    <a:ext cx="3096360" cy="1991880"/>
                    <a:chOff x="2040480" y="227880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404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4040"/>
                        <a:gd name="textAreaBottom" fmla="*/ 374400 h 374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680" y="3458160"/>
                      <a:ext cx="1149120" cy="58752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520"/>
                        <a:gd name="textAreaBottom" fmla="*/ 587880 h 587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3760"/>
                    <a:ext cx="3134520" cy="1610640"/>
                    <a:chOff x="2010960" y="2183760"/>
                    <a:chExt cx="3134520" cy="16106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4320" y="2493000"/>
                      <a:ext cx="2067840" cy="41328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3280"/>
                        <a:gd name="textAreaBottom" fmla="*/ 413640 h 413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2680"/>
                    <a:ext cx="2937240" cy="1004400"/>
                    <a:chOff x="2167560" y="2092680"/>
                    <a:chExt cx="2937240" cy="10044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18680"/>
                      <a:ext cx="1903680" cy="38520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228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2280"/>
                        <a:gd name="textAreaBottom" fmla="*/ 602640 h 60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240" cy="450360"/>
                    <a:chOff x="2403720" y="2027880"/>
                    <a:chExt cx="2658240" cy="4503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480" y="2064600"/>
                      <a:ext cx="1730880" cy="27144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732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040"/>
                    <a:ext cx="2364480" cy="788400"/>
                    <a:chOff x="2760840" y="1517040"/>
                    <a:chExt cx="2364480" cy="78840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600" y="1866240"/>
                      <a:ext cx="1520280" cy="2667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6760"/>
                        <a:gd name="textAreaBottom" fmla="*/ 267120 h 266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920" y="1605600"/>
                      <a:ext cx="816120" cy="4186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8680"/>
                        <a:gd name="textAreaBottom" fmla="*/ 419040 h 418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5160"/>
                    <a:ext cx="2323080" cy="1084680"/>
                    <a:chOff x="2887920" y="1235160"/>
                    <a:chExt cx="2323080" cy="108468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704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080"/>
                      <a:ext cx="816120" cy="4129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7640"/>
                    <a:ext cx="2170080" cy="1508040"/>
                    <a:chOff x="3161160" y="8276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968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1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5960"/>
                    <a:ext cx="1987560" cy="1829520"/>
                    <a:chOff x="3437280" y="435960"/>
                    <a:chExt cx="1987560" cy="18295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7960"/>
                      <a:ext cx="1542600" cy="26568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00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32360" y="322200"/>
                    <a:ext cx="1457640" cy="1899360"/>
                    <a:chOff x="4032360" y="322200"/>
                    <a:chExt cx="1457640" cy="18993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3240"/>
                      <a:ext cx="1358280" cy="264960"/>
                    </a:xfrm>
                    <a:custGeom>
                      <a:avLst/>
                      <a:gdLst>
                        <a:gd name="textAreaLeft" fmla="*/ 0 w 1358280"/>
                        <a:gd name="textAreaRight" fmla="*/ 1358280 w 1358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7760" y="533160"/>
                      <a:ext cx="729000" cy="41652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480" cy="1950840"/>
                    <a:chOff x="4448160" y="245520"/>
                    <a:chExt cx="1122480" cy="19508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5440"/>
                      <a:ext cx="1308960" cy="26496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6440"/>
                    <a:ext cx="2319480" cy="1115280"/>
                    <a:chOff x="5661720" y="946440"/>
                    <a:chExt cx="2319480" cy="11152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992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84320"/>
                      <a:ext cx="817560" cy="42084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20840"/>
                        <a:gd name="textAreaBottom" fmla="*/ 421200 h 420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120"/>
                    <a:ext cx="2201760" cy="1455480"/>
                    <a:chOff x="5529600" y="618120"/>
                    <a:chExt cx="2201760" cy="14554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524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2800"/>
                      <a:ext cx="817560" cy="41724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240"/>
                    <a:ext cx="1266840" cy="177480"/>
                  </a:xfrm>
                  <a:custGeom>
                    <a:avLst/>
                    <a:gdLst>
                      <a:gd name="textAreaLeft" fmla="*/ -360 w 1266840"/>
                      <a:gd name="textAreaRight" fmla="*/ 1266840 w 126684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1720"/>
                    <a:ext cx="678960" cy="282240"/>
                  </a:xfrm>
                  <a:custGeom>
                    <a:avLst/>
                    <a:gdLst>
                      <a:gd name="textAreaLeft" fmla="*/ 360 w 678960"/>
                      <a:gd name="textAreaRight" fmla="*/ 679680 w 6789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60040" y="268200"/>
                    <a:ext cx="1189800" cy="1893960"/>
                    <a:chOff x="5360040" y="268200"/>
                    <a:chExt cx="1189800" cy="18939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840" y="1410480"/>
                      <a:ext cx="1307520" cy="226800"/>
                    </a:xfrm>
                    <a:custGeom>
                      <a:avLst/>
                      <a:gdLst>
                        <a:gd name="textAreaLeft" fmla="*/ 0 w 1307520"/>
                        <a:gd name="textAreaRight" fmla="*/ 1307880 w 130752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3840"/>
                      <a:ext cx="702360" cy="3549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77640"/>
                    <a:ext cx="1890000" cy="1796760"/>
                    <a:chOff x="5349960" y="377640"/>
                    <a:chExt cx="189000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520" y="1376280"/>
                      <a:ext cx="1428840" cy="333000"/>
                    </a:xfrm>
                    <a:custGeom>
                      <a:avLst/>
                      <a:gdLst>
                        <a:gd name="textAreaLeft" fmla="*/ 0 w 1428840"/>
                        <a:gd name="textAreaRight" fmla="*/ 1429200 w 142884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74200"/>
                      <a:ext cx="766800" cy="520200"/>
                    </a:xfrm>
                    <a:custGeom>
                      <a:avLst/>
                      <a:gdLst>
                        <a:gd name="textAreaLeft" fmla="*/ 0 w 766800"/>
                        <a:gd name="textAreaRight" fmla="*/ 767160 w 76680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1960"/>
                    <a:ext cx="426240" cy="1792080"/>
                    <a:chOff x="5458320" y="291960"/>
                    <a:chExt cx="426240" cy="17920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180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2440"/>
                      <a:ext cx="630000" cy="166320"/>
                    </a:xfrm>
                    <a:custGeom>
                      <a:avLst/>
                      <a:gdLst>
                        <a:gd name="textAreaLeft" fmla="*/ 0 w 630000"/>
                        <a:gd name="textAreaRight" fmla="*/ 630360 w 63000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4320" y="2527560"/>
                    <a:ext cx="2193480" cy="3004200"/>
                    <a:chOff x="3064320" y="2527560"/>
                    <a:chExt cx="2193480" cy="30042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4960" y="3313800"/>
                      <a:ext cx="2131560" cy="383400"/>
                    </a:xfrm>
                    <a:custGeom>
                      <a:avLst/>
                      <a:gdLst>
                        <a:gd name="textAreaLeft" fmla="*/ 0 w 2131560"/>
                        <a:gd name="textAreaRight" fmla="*/ 2131560 w 213156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1160" y="4590360"/>
                      <a:ext cx="1139760" cy="604080"/>
                    </a:xfrm>
                    <a:custGeom>
                      <a:avLst/>
                      <a:gdLst>
                        <a:gd name="textAreaLeft" fmla="*/ 360 w 1139760"/>
                        <a:gd name="textAreaRight" fmla="*/ 114048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7920" y="2638800"/>
                    <a:ext cx="1484640" cy="3015000"/>
                    <a:chOff x="3787920" y="2638800"/>
                    <a:chExt cx="1484640" cy="30150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360" y="3430800"/>
                      <a:ext cx="1969560" cy="381960"/>
                    </a:xfrm>
                    <a:custGeom>
                      <a:avLst/>
                      <a:gdLst>
                        <a:gd name="textAreaLeft" fmla="*/ -360 w 1969560"/>
                        <a:gd name="textAreaRight" fmla="*/ 1969560 w 1969560"/>
                        <a:gd name="textAreaTop" fmla="*/ 0 h 381960"/>
                        <a:gd name="textAreaBottom" fmla="*/ 382320 h 381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38960" y="4749120"/>
                      <a:ext cx="1056960" cy="602640"/>
                    </a:xfrm>
                    <a:custGeom>
                      <a:avLst/>
                      <a:gdLst>
                        <a:gd name="textAreaLeft" fmla="*/ 360 w 1056960"/>
                        <a:gd name="textAreaRight" fmla="*/ 1057680 w 105696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497120" y="2682720"/>
                    <a:ext cx="876960" cy="2941200"/>
                    <a:chOff x="4497120" y="2682720"/>
                    <a:chExt cx="876960" cy="29412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3040" y="3471120"/>
                      <a:ext cx="1892880" cy="347400"/>
                    </a:xfrm>
                    <a:custGeom>
                      <a:avLst/>
                      <a:gdLst>
                        <a:gd name="textAreaLeft" fmla="*/ 360 w 1892880"/>
                        <a:gd name="textAreaRight" fmla="*/ 1893600 w 1892880"/>
                        <a:gd name="textAreaTop" fmla="*/ 0 h 347400"/>
                        <a:gd name="textAreaBottom" fmla="*/ 347760 h 347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54920" y="4802040"/>
                      <a:ext cx="1012680" cy="543960"/>
                    </a:xfrm>
                    <a:custGeom>
                      <a:avLst/>
                      <a:gdLst>
                        <a:gd name="textAreaLeft" fmla="*/ -360 w 1012680"/>
                        <a:gd name="textAreaRight" fmla="*/ 1012680 w 1012680"/>
                        <a:gd name="textAreaTop" fmla="*/ 0 h 543960"/>
                        <a:gd name="textAreaBottom" fmla="*/ 544320 h 543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120"/>
                    <a:ext cx="2280960" cy="2953800"/>
                    <a:chOff x="5677920" y="2481120"/>
                    <a:chExt cx="228096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760" y="3249720"/>
                      <a:ext cx="2129040" cy="383400"/>
                    </a:xfrm>
                    <a:custGeom>
                      <a:avLst/>
                      <a:gdLst>
                        <a:gd name="textAreaLeft" fmla="*/ 0 w 2129040"/>
                        <a:gd name="textAreaRight" fmla="*/ 2129400 w 212904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840" y="449712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88400"/>
                    <a:ext cx="1757160" cy="3038040"/>
                    <a:chOff x="5646240" y="2588400"/>
                    <a:chExt cx="1757160" cy="30380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200" y="3391200"/>
                      <a:ext cx="2036160" cy="369720"/>
                    </a:xfrm>
                    <a:custGeom>
                      <a:avLst/>
                      <a:gdLst>
                        <a:gd name="textAreaLeft" fmla="*/ 0 w 2036160"/>
                        <a:gd name="textAreaRight" fmla="*/ 2036520 w 203616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0760" y="4722120"/>
                      <a:ext cx="1090440" cy="57564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8640"/>
                    <a:ext cx="1229040" cy="2989440"/>
                    <a:chOff x="5576400" y="2708640"/>
                    <a:chExt cx="1229040" cy="29894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0600"/>
                      <a:ext cx="1973520" cy="30312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240" y="4881240"/>
                      <a:ext cx="1060920" cy="475920"/>
                    </a:xfrm>
                    <a:custGeom>
                      <a:avLst/>
                      <a:gdLst>
                        <a:gd name="textAreaLeft" fmla="*/ 0 w 1060920"/>
                        <a:gd name="textAreaRight" fmla="*/ 1061280 w 10609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3480" y="2834640"/>
                    <a:ext cx="694440" cy="2787840"/>
                    <a:chOff x="5523480" y="2834640"/>
                    <a:chExt cx="694440" cy="278784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8880" y="3601800"/>
                      <a:ext cx="1813680" cy="304200"/>
                    </a:xfrm>
                    <a:custGeom>
                      <a:avLst/>
                      <a:gdLst>
                        <a:gd name="textAreaLeft" fmla="*/ 0 w 1813680"/>
                        <a:gd name="textAreaRight" fmla="*/ 1814040 w 1813680"/>
                        <a:gd name="textAreaTop" fmla="*/ 0 h 304200"/>
                        <a:gd name="textAreaBottom" fmla="*/ 304560 h 304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3760" y="4867200"/>
                      <a:ext cx="975600" cy="475920"/>
                    </a:xfrm>
                    <a:custGeom>
                      <a:avLst/>
                      <a:gdLst>
                        <a:gd name="textAreaLeft" fmla="*/ 0 w 975600"/>
                        <a:gd name="textAreaRight" fmla="*/ 975960 w 97560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320" y="2883240"/>
                    <a:ext cx="665280" cy="2721600"/>
                    <a:chOff x="4963320" y="2883240"/>
                    <a:chExt cx="665280" cy="272160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2280"/>
                      <a:ext cx="1775880" cy="231480"/>
                    </a:xfrm>
                    <a:custGeom>
                      <a:avLst/>
                      <a:gdLst>
                        <a:gd name="textAreaLeft" fmla="*/ 0 w 1775880"/>
                        <a:gd name="textAreaRight" fmla="*/ 1776240 w 17758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080" y="4929480"/>
                      <a:ext cx="953280" cy="364680"/>
                    </a:xfrm>
                    <a:custGeom>
                      <a:avLst/>
                      <a:gdLst>
                        <a:gd name="textAreaLeft" fmla="*/ 0 w 953280"/>
                        <a:gd name="textAreaRight" fmla="*/ 953640 w 953280"/>
                        <a:gd name="textAreaTop" fmla="*/ 0 h 364680"/>
                        <a:gd name="textAreaBottom" fmla="*/ 365040 h 36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160"/>
                <a:ext cx="6732720" cy="4529160"/>
                <a:chOff x="2174400" y="677160"/>
                <a:chExt cx="6732720" cy="45291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160"/>
                  <a:ext cx="6732720" cy="4529160"/>
                  <a:chOff x="2174400" y="677160"/>
                  <a:chExt cx="6732720" cy="45291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400"/>
                    <a:ext cx="3166560" cy="252828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-360 h 2528280"/>
                      <a:gd name="textAreaBottom" fmla="*/ 2528280 h 252828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000"/>
                    <a:ext cx="2486880" cy="293832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8320"/>
                      <a:gd name="textAreaBottom" fmla="*/ 2938680 h 293832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7800"/>
                    <a:ext cx="1758240" cy="293832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8320"/>
                      <a:gd name="textAreaBottom" fmla="*/ 2938680 h 293832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3480"/>
                    <a:ext cx="3133440" cy="294300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43000"/>
                      <a:gd name="textAreaBottom" fmla="*/ 2943360 h 294300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160"/>
                    <a:ext cx="2282760" cy="284436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4360"/>
                      <a:gd name="textAreaBottom" fmla="*/ 2844720 h 28443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720"/>
                    <a:ext cx="940680" cy="28429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2920"/>
                      <a:gd name="textAreaBottom" fmla="*/ 2843280 h 28429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0160"/>
                    <a:ext cx="515160" cy="18810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81000"/>
                      <a:gd name="textAreaBottom" fmla="*/ 1881360 h 18810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8360"/>
                  <a:ext cx="546120" cy="103500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5000"/>
                    <a:gd name="textAreaBottom" fmla="*/ 1035360 h 103500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80840"/>
              <a:ext cx="6411960" cy="4705560"/>
              <a:chOff x="2343960" y="780840"/>
              <a:chExt cx="6411960" cy="47055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301200"/>
                <a:ext cx="598320" cy="182268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2680"/>
                  <a:gd name="textAreaBottom" fmla="*/ 1823040 h 1822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46720"/>
                <a:ext cx="2617200" cy="28396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39680"/>
                  <a:gd name="textAreaBottom" fmla="*/ 2840040 h 28396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89160"/>
                <a:ext cx="1534320" cy="29322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806120"/>
                <a:ext cx="2930760" cy="29322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217960"/>
                <a:ext cx="469800" cy="29322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204280"/>
                <a:ext cx="1238040" cy="29322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2200"/>
                  <a:gd name="textAreaBottom" fmla="*/ 2932560 h 29322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612960"/>
                <a:ext cx="598320" cy="182268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2680"/>
                  <a:gd name="textAreaBottom" fmla="*/ 1823040 h 1822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3013920"/>
                <a:ext cx="543600" cy="10328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-360 h 1032840"/>
                  <a:gd name="textAreaBottom" fmla="*/ 1032840 h 1032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50600"/>
                <a:ext cx="1338480" cy="187812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8120"/>
                  <a:gd name="textAreaBottom" fmla="*/ 1878480 h 1878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65920"/>
                <a:ext cx="858240" cy="187812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8120"/>
                  <a:gd name="textAreaBottom" fmla="*/ 1878480 h 1878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74120"/>
                <a:ext cx="1242000" cy="19717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1720"/>
                  <a:gd name="textAreaBottom" fmla="*/ 1972080 h 19717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76920"/>
                <a:ext cx="1872360" cy="131472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4720"/>
                  <a:gd name="textAreaBottom" fmla="*/ 1315080 h 13147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80840"/>
                <a:ext cx="819000" cy="176724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7240"/>
                  <a:gd name="textAreaBottom" fmla="*/ 1767600 h 1767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280" y="2221200"/>
                <a:ext cx="542880" cy="103140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1400"/>
                  <a:gd name="textAreaBottom" fmla="*/ 1031400 h 1031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9B55-9B85-4E19-9CDC-7E4ABE73B6A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ur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50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State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[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Name of Your Stat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r Na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ographic Location and Neighb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TextBox 2"/>
          <p:cNvSpPr/>
          <p:nvPr/>
        </p:nvSpPr>
        <p:spPr>
          <a:xfrm>
            <a:off x="914400" y="2438280"/>
            <a:ext cx="7162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State of (State) is located in the ____________________ region of the United Stat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ist all the neighboring States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_______________________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p of US Region (State) is located 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TextBox 2"/>
          <p:cNvSpPr/>
          <p:nvPr/>
        </p:nvSpPr>
        <p:spPr>
          <a:xfrm>
            <a:off x="1905120" y="3276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ease place a map of the US region your State is located i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685800" y="1600200"/>
            <a:ext cx="6781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ose one place in your state that would be interesting to visit.  Tell where it is located in the state and why it would be interesting to visit th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609480" y="6324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ace 1 of 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85800" y="1600200"/>
            <a:ext cx="6781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ose a second place in your state that would be interesting to visit.  Tell where it is located in the state and why it would be interesting to visit th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533520" y="5867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ace 2 of 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85800" y="1600200"/>
            <a:ext cx="6781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ose a third place in your state that would be interesting to visit.  Tell where it is located in the state and why it would be interesting to visit th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TextBox 3"/>
          <p:cNvSpPr/>
          <p:nvPr/>
        </p:nvSpPr>
        <p:spPr>
          <a:xfrm>
            <a:off x="53352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ace 3 of 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685800" y="1600200"/>
            <a:ext cx="6781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ose a fourth and final place in your state that would be interesting to visit.  Tell where it is located in the state and why it would be interesting to visit th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457200" y="60199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ace 4 of 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mous Peop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914400" y="182880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hoose five well known residents of your state. Tell what they did to become famou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1600200"/>
            <a:ext cx="6705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ional Gover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the current United States Senato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is state has ____ electoral vot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ate Gover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the current governo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scribe the state’s legislatur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629400" y="3809880"/>
            <a:ext cx="2362320" cy="2819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678168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dd a Picture of the Current Governo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838080" y="1981080"/>
            <a:ext cx="76964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 this space insert a political and/or physical map of your state.  The map must show the capital, major landforms, and historical/tourist are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838080" y="1828800"/>
            <a:ext cx="7086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products of the state include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gricultural (farm) product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ining product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nufactured good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mbols of (name of your state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tate bird i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tate flower 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state tree 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6248520" y="3276720"/>
            <a:ext cx="1143000" cy="12189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3657600" y="5029200"/>
            <a:ext cx="11430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3733920" y="198108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657600" y="5029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6248520" y="3429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914400" y="1752480"/>
            <a:ext cx="7924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the major rivers and bodies of wat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ner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and describe a few different kinds of mineral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tural Resources,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914400" y="2286000"/>
            <a:ext cx="79246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lant Lif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and describe some of the trees and wildflow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imal Lif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and describe some of the wild animal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ath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62120" y="1752480"/>
            <a:ext cx="784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average high temperature in July is _________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average high temperature in January is __________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average yearly precipitation is _____________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creational Activities of (name of your state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List pro and college sports teams, and other various activit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ist the resources you used for your research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Fla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ste the state flag here and give a brief explanation of what is on the fla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4343400" y="3962520"/>
            <a:ext cx="3581280" cy="2286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Paste Flag he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Nicknam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at is the state’s nickname? Write a short explanation of how your state got this nickna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Mot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685800" y="1676520"/>
            <a:ext cx="7010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ell about the state motto and what makes this state specia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Histo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838080" y="1447920"/>
            <a:ext cx="79250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rst Inhabitan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ame the major tribes of Native Americans that lived in this state. Include a few interesting facts about these peopl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lor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ich explorers visited your state and where did they come from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ttle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re was the first settlement located in your state? Who started the settlement and why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History,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838080" y="1752480"/>
            <a:ext cx="7848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lonial Day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your state was one of the original thirteen colonies, explain what life was probably like during that ti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ritorial Day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f your state was a territory before it became a state, explain when the United States Congress created the territory. Explain how settlers were able to obtain land in the new territor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History,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838080" y="1752480"/>
            <a:ext cx="784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is state became the ____ state in the United States in ____. The first governor of the state was _________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(Name of Your State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762120" y="213372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apital of (State) is _____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Abbreviation of (State) is ________________________________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2010 Population of (State) is _____________________________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1371600" y="6019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lease Add a Picture of the State Capital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38:09Z</dcterms:created>
  <dc:creator>Connie Campbell</dc:creator>
  <dc:description/>
  <dc:language>en-US</dc:language>
  <cp:lastModifiedBy>rdepiro</cp:lastModifiedBy>
  <cp:lastPrinted>2001-06-01T13:12:48Z</cp:lastPrinted>
  <dcterms:modified xsi:type="dcterms:W3CDTF">2011-06-07T14:02:56Z</dcterms:modified>
  <cp:revision>26</cp:revision>
  <dc:subject/>
  <dc:title>Our 50 States: [Name of Your State]</dc:title>
</cp:coreProperties>
</file>